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CF33-AFB4-4CB3-B73B-DC058238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95F9-A877-4617-84F2-97E68DDF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5C4D-A9FE-4C23-8814-6A8E7BC2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6704-BE62-4485-A22B-DFBBD649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ACFC-27AE-49D4-B0C1-068CD109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7F2B-5CB0-4B9C-81C4-36536373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6703-84F6-49A2-81BB-1A6E5609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AEA9-D17C-44D9-BC23-DCDC5367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30B3-C3B4-412F-B8EB-91519A19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B584-8F4D-4694-9A4E-6091C80A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0903-1CB6-46C1-93F0-6C54DD97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E7EB-58BA-4F32-8120-FAA21A18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1A4B-5607-459C-AD20-10C65197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3717-F732-4021-A2E7-FCAF7C0F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6CBA-B8EB-45D5-BAE5-2FA033E4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4799-342B-49A0-B962-2D887617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C523-8D91-4652-A914-8C891496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B137E-A648-4F70-A7CD-627410E0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979C8-0B04-4452-B95D-1783C111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642F8-B6FF-4506-85F8-5883F563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EA902-4A59-4CAC-9E73-797FD96F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105B6-578F-4EB1-8F62-1E8F20EF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61DF-4564-4D9B-9E3E-82057DBA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F5DB5-DD79-4E1B-863B-E2A92959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A7C9C-5563-48D6-B60C-9DA5FF81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E764E-E74B-490F-9FA7-C97A7CF3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F4100-1DB4-4F35-95C2-F57C4BF7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11696-6F8B-48FB-B438-C11562A0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DBC7A-81CA-4491-8027-148A499B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BB50B-6DE5-4C33-9630-6B410980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54C87-2ABB-45B0-AE09-615E2CD3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0F138-F6B0-4E06-8AA8-ECD73CA6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45309-1E3E-465A-8A8F-DBBDEAEC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75B-C45C-4846-BA05-FCEEC494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A219F-90D2-4935-BDA9-5FA4CBF8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09F87-80FB-44C7-AE18-3E2B4397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690AA-0A1C-45D1-9A31-655629DB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1508D-E636-4A90-88F1-FDB1DA08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6A390-C0BE-43B0-AAFC-B013B09A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7CD07-3E56-42C1-B426-D5BFA8DD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BD349-787D-415C-AD40-2E876791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DEC50-B279-4899-8A49-328E9E84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D77C4-CCEA-4504-A8D0-FD93B4E3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1209-010D-44D7-A3A0-DA55E937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A9C6-CA40-4F98-B3A9-CF68C491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B7E5-A978-4330-B89E-13F99B52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E90E-5E44-44E1-80B4-926F17EA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987C-1F80-40EB-8C1B-6330E581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648A-B6D9-48C9-8E84-788F37B23150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600D-A360-4672-A757-7050572AF70D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9BAA-ACF8-47CF-AD43-904EC4C765D4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F8EE-EFCD-45C2-AF5E-E91E044AF00D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63640" y="1267920"/>
            <a:ext cx="5686560" cy="33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РО П</a:t>
            </a:r>
            <a:r>
              <a:rPr b="1" lang="uk-UA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І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СУМКИ РОБОТИ З ПРАЦЕВЛАШТУВАННЯ ВИПУСКНИКІВ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9-Х, 11 (12)-Х КЛАСІВ 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У 2024 РОЦІ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727280" y="3933360"/>
            <a:ext cx="5711760" cy="13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оловний спеціаліст відділу освіти, культури, молоді та спорту Наталія ПРИХОДЬ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УВАГА!!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З «Лигівський ліцей» 1 довідка 11 кла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З «Сахновщинський ліцей №2» 2 довідки 11 кла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З «Катеринівський ліцей» 3 довідки 9 кла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З «Костянтинівський ліцей» 2 довідки 11 клас, 2 довідки 9 кл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4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0066"/>
                </a:solidFill>
                <a:latin typeface="Monotype Corsiva"/>
              </a:rPr>
              <a:t>ДЯКУЮ ЗА УВАГУ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Наказ відділу освіти, культури, молоді та спорту</a:t>
            </a:r>
            <a:r>
              <a:rPr b="0" lang="uk-UA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uk-UA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</a:t>
            </a:r>
            <a:r>
              <a:rPr b="0" lang="uk-UA" sz="2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від 05 травня 2025 року № 5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проведення обліку продовження навчання та працевлаштування випускників    9-х, 11 (12)-х класів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ці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Constantia"/>
              </a:rPr>
              <a:t>ЕТАПИ РОБОТИ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2579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іменний моніторинг випускників 9-х, 11 (12)-х класів в форматі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Excel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явність підтверджувальних документ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наліз роботи з питань працевлаштування (подальшого навчання) випускни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евлаштування 9-х класів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ього 19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1" name="Содержимое 4"/>
          <p:cNvGraphicFramePr/>
          <p:nvPr/>
        </p:nvGraphicFramePr>
        <p:xfrm>
          <a:off x="1467000" y="2065320"/>
          <a:ext cx="632304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Содержимое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7000" y="2065320"/>
                    <a:ext cx="632304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Працевлаштування 11 (12)-х класів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Всього 158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4" name="Содержимое 3"/>
          <p:cNvGraphicFramePr/>
          <p:nvPr/>
        </p:nvGraphicFramePr>
        <p:xfrm>
          <a:off x="1414440" y="1700280"/>
          <a:ext cx="6757920" cy="43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1700280"/>
                    <a:ext cx="6757920" cy="43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13880" y="785880"/>
            <a:ext cx="76438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nstantia"/>
              </a:rPr>
              <a:t>Не продовжують навчання після 11 класу 39 учні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042920" y="1699920"/>
            <a:ext cx="7274160" cy="40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КЗ “Багаточернещинський ліцей” – 3 учні з 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КЗ «Гришівський ліцей» – 4 учні з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КЗ «Катеринівський ліцей» – 3 учні з 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З “Костянтинівський ліцей” – 2 учні з 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З «Лигівський ліцей» – 1 учень з 1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КЗ “Огіївський ліцей” – 8 учнів з 1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З “Новоолександрівський ліцей” – 2 учні з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З “Сахновщинський ліцей № 1” – 5 учнів з 4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З “Сахновщинський ліцей № 2” – 11 учнів з 4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ЯКІСНО ВИКОНАНО НАБІР </a:t>
            </a:r>
            <a:br>
              <a:rPr sz="3600"/>
            </a:br>
            <a:r>
              <a:rPr b="0" lang="uk-UA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о 10 класу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116000" y="2205000"/>
            <a:ext cx="691200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З «Багаточернещинський ліцей» - 9 учнів з 1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З «Гришівський ліцей» - 6 учнів з 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З «Огіївський ліцей» - 9 учнів з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З «Лигівський ліцей» - 14 учнів з 1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КЗ «Новоолександрівський ліцей» - 8 учнів з 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З “Сахновщинський ліцей №1” – 33 учнів з 3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66"/>
                </a:solidFill>
                <a:latin typeface="Arial"/>
              </a:rPr>
              <a:t>Результати</a:t>
            </a:r>
            <a:r>
              <a:rPr b="0" lang="uk-UA" sz="4400" spc="-1" strike="noStrike">
                <a:solidFill>
                  <a:srgbClr val="ff0066"/>
                </a:solidFill>
                <a:latin typeface="Constanti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каз відділу освіти, культури, молоді та спор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 27.10.2024 № 143 “Про підсумки роботи з працевлаштування та подальшого навчання випускників 9-х, 11(12)-х класів закладів загальної середньогї освіти Сахновщинської селищної ради  у 2025 році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66"/>
                </a:solidFill>
                <a:latin typeface="Constantia"/>
              </a:rPr>
              <a:t>ЗАВДАННЯ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14240" y="1714680"/>
            <a:ext cx="771552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Керівникам  закладів осві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Особистий контроль питання щодо подальшого навчання та працевлаштування випускників 9-х, 11 (12)-х клас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09:47:46Z</dcterms:created>
  <dc:creator>Helen</dc:creator>
  <dc:description/>
  <dc:language>en-US</dc:language>
  <cp:lastModifiedBy>пк</cp:lastModifiedBy>
  <dcterms:modified xsi:type="dcterms:W3CDTF">2025-10-28T13:06:49Z</dcterms:modified>
  <cp:revision>58</cp:revision>
  <dc:subject/>
  <dc:title>Слайд 1</dc:title>
</cp:coreProperties>
</file>